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1CF-7DE1-4710-BB16-EE5E6728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FE0-97FD-43CE-8590-858B8F6D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F57A-9A60-4D29-A11D-C74B799B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2B1-AB35-477E-8736-1B060456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708-5048-4444-A9E7-7E49CFC4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50F-5106-425B-A969-698E31B9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4F5-D66A-450A-950D-3044B2E0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927-EBD4-46A0-9ED7-877E44CD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9C8-744A-4755-B432-13526476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E64-9022-4505-8E09-63FC8049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E0A-BA40-48C8-AC6C-4740257A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2C1-A9B8-4958-818A-32EE5933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7DFB-1A06-4DC4-8640-035A37679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xpedia.com/" TargetMode="External"/><Relationship Id="rId2" Type="http://schemas.openxmlformats.org/officeDocument/2006/relationships/hyperlink" Target="http://www.hotels.com/" TargetMode="External"/><Relationship Id="rId3" Type="http://schemas.openxmlformats.org/officeDocument/2006/relationships/hyperlink" Target="http://www.tripadvisor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The Beautiful Beaches of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Nassau, Baha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29200" y="533520"/>
            <a:ext cx="2590920" cy="1917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2448000" cy="2359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3581640" cy="237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girl on nassau beach"/>
          <p:cNvPicPr/>
          <p:nvPr/>
        </p:nvPicPr>
        <p:blipFill>
          <a:blip r:embed="rId4"/>
          <a:stretch/>
        </p:blipFill>
        <p:spPr>
          <a:xfrm>
            <a:off x="4648320" y="4267080"/>
            <a:ext cx="35812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Contact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If you have any questions or concerns call: 256-783-3433 or e-mail me at ktshoe1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58128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Bibliograph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746748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risten ITC"/>
                <a:hlinkClick r:id="rId1"/>
              </a:rPr>
              <a:t>www.expedia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risten ITC"/>
                <a:hlinkClick r:id="rId2"/>
              </a:rPr>
              <a:t>www.hote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risten ITC"/>
                <a:hlinkClick r:id="rId3"/>
              </a:rPr>
              <a:t>www.tripadvisor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Kristen ITC"/>
              </a:rPr>
              <a:t>Air Fligh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Depart from Huntsville, AL: 4/29/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t: 6:20am for: $427 per ti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rrive at Nassau, Bahamas: 4/29/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t: 11:58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Depart from Nassau, Bahamas: 5/7/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t: 7:40am for: $430 per ti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rrive at Huntsville, AL: 5/7/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t: 11:11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Kristen ITC"/>
              </a:rPr>
              <a:t>Hote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Only One Ocean Cl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Air Conditio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24hrs Front Desk And Concie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5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Airport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Breakfast Buff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Coffee Sh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Complimentary High-Speed Internet Acc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Dmx Satellite Radio Chann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Excurs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Go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Land Spo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Kristen ITC"/>
              </a:rPr>
              <a:t>Local C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533520"/>
            <a:ext cx="2362320" cy="609480"/>
          </a:xfrm>
          <a:prstGeom prst="rect">
            <a:avLst/>
          </a:prstGeom>
          <a:solidFill>
            <a:srgbClr val="b416d4"/>
          </a:solidFill>
          <a:ln w="9360">
            <a:solidFill>
              <a:srgbClr val="b416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609480"/>
            <a:ext cx="38088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609480"/>
            <a:ext cx="38088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609480"/>
            <a:ext cx="38088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77320" y="609480"/>
            <a:ext cx="38088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609480"/>
            <a:ext cx="38088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144288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362320" y="1828800"/>
            <a:ext cx="2057400" cy="149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28600" y="388620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590920" y="3886200"/>
            <a:ext cx="1704960" cy="2305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800600" y="43434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858000" y="4495680"/>
            <a:ext cx="1905120" cy="1395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6324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$785 1 adult nightly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The Reef Atlan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Babysit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Business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Fitness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Internet Access Available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Park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P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Restaurant On-si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Room 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Check-in time is 3 P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Check-out time is 11 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Minimum check-in age 2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Pets not allowed</a:t>
            </a: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457200"/>
            <a:ext cx="2362320" cy="609480"/>
          </a:xfrm>
          <a:prstGeom prst="rect">
            <a:avLst/>
          </a:prstGeom>
          <a:solidFill>
            <a:srgbClr val="b416d4"/>
          </a:solidFill>
          <a:ln w="9360">
            <a:solidFill>
              <a:srgbClr val="b416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533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533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533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533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533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457200"/>
            <a:ext cx="228600" cy="457200"/>
          </a:xfrm>
          <a:prstGeom prst="rect">
            <a:avLst/>
          </a:prstGeom>
          <a:solidFill>
            <a:srgbClr val="b416d4"/>
          </a:solidFill>
          <a:ln w="9360">
            <a:solidFill>
              <a:srgbClr val="b416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2210040" cy="1471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629400" y="1600200"/>
            <a:ext cx="1454040" cy="1971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962520" y="3657600"/>
            <a:ext cx="1971720" cy="131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400800" y="3886200"/>
            <a:ext cx="2124000" cy="1414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33520" y="5105520"/>
            <a:ext cx="2276280" cy="1515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3657600" y="5257800"/>
            <a:ext cx="1819440" cy="1211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867280" y="59436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$458.33 1 adult nightly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Kristen ITC"/>
              </a:rPr>
              <a:t>Attractio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Blue Lagoon I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lphin Encounters, located on Blue Lagoon Island, is one of the most exciting and intriguing tours available. Guests who purchase either a dolphin encounter/dolphin swim or sea lion encounter will  receive </a:t>
            </a: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FREE BEACH ACCESS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 to the Lagoon Beach and facilities. Guests can purchase Lunch and Drinks.  (Lunch Package cost's $12) or get the Add on package which includes lunch and use of float mats, noodles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62720" y="3733920"/>
            <a:ext cx="1944720" cy="2809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Blue Lagoon Island: Welcome/Goodbye Sign at the entrance"/>
          <p:cNvPicPr/>
          <p:nvPr/>
        </p:nvPicPr>
        <p:blipFill>
          <a:blip r:embed="rId3"/>
          <a:srcRect l="6363" t="1459" r="10727" b="65544"/>
          <a:stretch/>
        </p:blipFill>
        <p:spPr>
          <a:xfrm>
            <a:off x="6019920" y="304920"/>
            <a:ext cx="28954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Dive Aba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is is the ultimate diving experience. While exploring the reefs of Blue Lagoon Island you also learn about different species of fish and their habit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Dive Abaco!: Under a ledge"/>
          <p:cNvPicPr/>
          <p:nvPr/>
        </p:nvPicPr>
        <p:blipFill>
          <a:blip r:embed="rId1"/>
          <a:stretch/>
        </p:blipFill>
        <p:spPr>
          <a:xfrm>
            <a:off x="5257800" y="1523880"/>
            <a:ext cx="2847960" cy="2133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Dive Abaco!: Passages through the coral reef"/>
          <p:cNvPicPr/>
          <p:nvPr/>
        </p:nvPicPr>
        <p:blipFill>
          <a:blip r:embed="rId2"/>
          <a:stretch/>
        </p:blipFill>
        <p:spPr>
          <a:xfrm>
            <a:off x="5257800" y="3886200"/>
            <a:ext cx="281952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21:29:00Z</dcterms:created>
  <dc:creator>Katy</dc:creator>
  <dc:description/>
  <dc:language>en-US</dc:language>
  <cp:lastModifiedBy>Katy</cp:lastModifiedBy>
  <dcterms:modified xsi:type="dcterms:W3CDTF">2009-04-29T01:47:29Z</dcterms:modified>
  <cp:revision>3</cp:revision>
  <dc:subject/>
  <dc:title>The Beautiful Beaches of: Nassau, Bahamas</dc:title>
</cp:coreProperties>
</file>